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A3A-9626-49C5-AC2F-0AF39AA5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262-F00B-410E-B892-136A21B9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6F264-8CE9-461E-9971-5F81B928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EB331-7011-49A7-86E7-762A8BF8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49589-AF1F-4B75-8BCE-2A7EBBC1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2CDE1-C1D5-43FB-B9D7-F5618BE3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12CBF-7DB3-4365-B512-769AEB9F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D0367-E5D0-488B-89A0-61DE731F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EF93C-A6F0-4EF8-806A-1A2F8453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72040-6C6E-4CFD-8570-E3447B23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40BA1-E605-4920-AFDD-B14A80EF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8A944-FE6F-4B9A-85B0-8A4EC2C0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336-99D3-4FF0-B62D-9228EA7C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7C6C0-EDDE-4601-8049-D398E91B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48529-50BD-4D8E-A3D0-3DF365FC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12749-4BC8-4E92-834B-849B7DF3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C133D-6A43-4A0A-A718-706103C1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0A351-6A38-484D-A594-0E7DC384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C435B-B36B-46AD-A4D2-F709ADB7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44A03-D01A-4FCF-A9AC-983FB81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3448E-0076-41C1-8FE7-077444FC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26FF7-5D19-450B-AB1A-778A47C2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0A1A2-227D-4084-9A84-6C046891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E0A-1124-4E0D-833C-9BBFF637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D1FE6-19C8-40F0-AB5F-B05E7EED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B4F5-AF4D-4524-AA4E-D43D6069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EBDA-E1EB-4919-AD74-BD085F2C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62F1-50A1-48AE-8C01-13CFD42F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E9A7-C780-4C7D-9059-290D9652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C9C0-5839-4CA7-A268-98BB773E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4FB4-06F4-476A-8872-CB3A146C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8DB6-FE61-4935-8D02-AF30C405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170-3155-41B0-BC1F-4C204B59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F08F-9B54-4BD6-8592-1EC0994C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2C6C-834B-4737-992B-A1C6C268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C41B-C795-4FF3-9ABB-7CC46606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6571-F897-4A27-8C6E-213BFCDC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7697-642F-477B-8E83-5CC356A5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8FF30-1F40-48B1-A516-C62BE2FE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0F5ED-C728-4365-9756-53D8A11F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148E8-1B7D-4A48-BE5C-376A69CB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7CA84-6E0D-445C-8E8D-ADC835E3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6E3C2-D0BD-4D26-8E3E-81C5FA4F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F5C-EDD2-4D2D-8804-A574DFC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320DB-0C9B-4104-A72D-003C80D4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19841-D2D2-4C5C-BB8B-29EF683B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0D4C3-D752-437D-B71E-757A994E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5F96D-BCB6-4DDE-ABEF-6DEB44BD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1514A-A8D6-4A2B-AC9D-CC2B20B9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90567-1E4C-4013-B0E3-0420B508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7B8E8-2B1B-45D5-AA48-FA241756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51C9E-ACC0-420C-81E9-48BEACDC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040E3-1E18-4203-BD48-02765360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032D8-100A-478E-A319-34F8B7C0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851-9D94-46DD-9443-076B72B8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78368-C3C9-41FF-BB77-AAC00D19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254EF4-2BB7-4663-A454-9488E959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27DFF-9086-4308-90F3-A9A6F1DA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3CB3C-0B83-4146-A8AF-FDC1437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5988C3-4E52-48E5-BF2D-D1D3E848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213456-E27A-4F6D-B44C-31C8AF13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37090-F7EE-49C2-B271-E055F0C0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FF849-7F9C-47BD-9706-D58F2651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D1EAD-E0FC-4697-8217-FFFD442B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34470-968A-491C-A2E6-57A0100B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AF1-FFF8-4CA9-890C-F2B417B7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218F7-1674-47AD-A187-3EE7F0D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33F2C-1CF1-4D75-8C28-87F65D51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2611D-60CC-47E6-9752-6D3DCE26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FC939-A001-4E69-84F6-5BB8F5E2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D334-3A35-4C92-814D-4A29D5FB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F38C0-1084-4F03-85C7-2C401D04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1F3E9-1641-4731-92CD-B3AA7908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EAA1A-07B6-4212-91FF-0EF9F669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32523-215F-4289-BCA9-4D015CDB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DCFF5-7218-4C1B-9F19-F0873ABB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E4F-DF54-48EA-BC0C-4819114B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EF723-4D57-4253-9428-288B62B3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60540-BD67-4677-91BE-53467EAB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01092-6B5D-400E-B932-7281FD01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BD048-0B81-4243-A74D-16D72CB2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F584A-2BFD-485D-B948-41BE75D3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0C608-96C1-429A-9129-0BFD3EBE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D3D33-C29D-41FB-A558-3E7714A4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7F9BD-6A2F-4052-801D-2CBDFD7F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9872-26FE-462E-8814-694E1E22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1F413-D2D6-4CBF-A17B-EC3238EB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4C0-3CD9-4350-9588-5C196FB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D02B2-D4C7-4097-B0EB-FA744C29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3341A-B08D-4168-852B-80073090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462F5-B99E-494C-B942-39815F66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BC42D-539C-45FB-9307-3E2F20A5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C27BE-6F0B-456B-9C59-46EB9714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7D8DD-85FD-45C8-8F5B-53F11699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45718-A705-4E58-9C33-15CAF2B2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FF6B2-F87B-471F-A506-98BB8999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0E576-35C4-477A-A453-A144BB9A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4C31C-3F53-4E39-BD03-77378BF0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FAC-D74A-486D-A505-E50A140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DFB6A-F81A-4F0B-A354-EA41E835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97E01-57B5-44BC-A4F0-D8350CAB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43457-FFB0-4EDA-8311-922DF422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29727-184C-4CB4-B17A-12803FBD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F059C-3EB3-43F6-8615-234348EE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A2B91-731B-4A68-8E4A-3994C58D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61C1A-5FB6-4FB0-A38A-A804FF8E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3AEE0-2794-4615-9026-005F95F2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8AB6E-3A23-4A47-BD5E-7265C102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64FFD-DDC5-47EA-A4BD-96F85AF5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9B2-67BF-4B19-A19B-2AFE174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0A92A-3980-42DE-B643-0C97D59F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ED6B4-CEAE-4027-8BF4-8CD8C496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C5147-8244-4B10-A3BB-BC0D0A65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82D2B-1904-4E27-846B-AAED5784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B52F9-4B88-4B97-BE3A-A6C34E00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2E51B-BD73-436B-9BCD-BFEBA4FD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7432A-9582-44C3-B229-2E13CE47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880A8-2B1A-47D7-B065-BD5DB000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18C01-0B65-475C-A85B-D8B5D4F7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F2C91-8DEF-4B9D-9B6A-E001740D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1955-FF9E-45FD-A194-7AA12CC056F8}" type="slidenum">
              <a:rPr b="0" lang="en-A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39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2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001B-438F-40DA-8D58-AC9F079EE3AC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5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9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D071-7161-499C-824C-715FF20455A9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829D-6B3F-449F-8EA8-B6FCEF2326B3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73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511A-9FE8-4769-A90E-CCFD2329F6B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0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3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48E0-323B-4B99-9774-76BEEE395EB6}" type="slidenum">
              <a:rPr b="0" lang="en-A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10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7C17-0092-44DC-8628-3F7D78254743}" type="slidenum">
              <a:rPr b="0" lang="en-A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54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8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1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8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7320-8FD2-4228-BB7C-30FD074C0097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3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3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1B5B-C217-4595-B2C0-4531A3BE5864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82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40E8-E8A4-4D46-A4C9-DE04FB2D96E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cc"/>
                </a:solidFill>
                <a:latin typeface="Tahoma"/>
              </a:rPr>
              <a:t>HEAT SOUR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ECTOTHERM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pend on external sources of heat to generate body warm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POIKOLOTHERM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Organisms with fluctuating tempera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-built source of body heat – their internal energy-releasing chemical reactions that produce heat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intain fairly constant body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99"/>
                </a:solidFill>
                <a:latin typeface="Arial"/>
              </a:rPr>
              <a:t>HOMEOTHERMIC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ganisms with constant temperatu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10:43:15Z</dcterms:created>
  <dc:creator>Lyn Clarkson</dc:creator>
  <dc:description/>
  <dc:language>en-US</dc:language>
  <cp:lastModifiedBy>Emily</cp:lastModifiedBy>
  <dcterms:modified xsi:type="dcterms:W3CDTF">2008-07-22T11:44:08Z</dcterms:modified>
  <cp:revision>2</cp:revision>
  <dc:subject/>
  <dc:title>HEAT SOURCE</dc:title>
</cp:coreProperties>
</file>